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EDA2-B959-4D67-BDF8-28E12B4CB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BCF2-71F5-43AC-8204-5E60C7A4D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3B61-6212-418C-B8B7-8C94F3824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AA7B-629E-4CAF-A9A0-660A3F1709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64559-FDE3-40C7-939C-8C580C795C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B9FD5-6E62-42EC-956C-81C66C9439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6B5D-A2B8-4080-8598-194C53C1F2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F5C2D-6DAB-4A64-8FC4-B6C2EC63BD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A0F01-EBFB-499E-A515-B058FA3B61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6003-E78C-44DB-8777-A9F06C4C37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B091-FBE8-4E72-93DE-3D3514CDC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FA2C-1DCE-4A9E-9320-73031AD7D6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F3DF-876E-4CDC-8F5F-975294E027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A92D-5925-441D-A23E-F8DFC1216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8F4CF-D7EE-4F24-A313-0B405EB3EC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2673-EC71-4595-A15E-E33506AFDA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5280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447D-8E59-48B9-924D-5FE77FE6A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A227-20C7-42D9-86EA-C4DD5564A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FD45-1218-4079-8FEF-11EEF261C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E7E1-83F6-4076-B82C-494A05751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BA1B-5FEF-4859-8B00-893C61484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3CFF-48ED-4733-B404-052190E91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5280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E7C3-5D61-4A33-99B2-A2C802F6C7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5280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E413-8E67-49BD-AFBC-E33676184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C5AE-06EF-4301-864A-52F16DBFD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7459560" y="6388200"/>
            <a:ext cx="317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920F-558A-4D4B-9168-7FD24CBEF45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7d"/>
              </a:buClr>
              <a:buSzPct val="63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9999cc"/>
              </a:buClr>
              <a:buSzPct val="68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04960" y="15228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d99"/>
                </a:solidFill>
                <a:latin typeface="Lucida Grande"/>
                <a:ea typeface="Lucida Grande"/>
              </a:rPr>
              <a:t>Mencius</a:t>
            </a:r>
            <a:br>
              <a:rPr sz="4000"/>
            </a:br>
            <a:r>
              <a:rPr b="0" lang="en-US" sz="4000" spc="-1" strike="noStrike">
                <a:solidFill>
                  <a:srgbClr val="002d99"/>
                </a:solidFill>
                <a:latin typeface="Lucida Grande"/>
                <a:ea typeface="Lucida Grande"/>
              </a:rPr>
              <a:t> </a:t>
            </a:r>
            <a:r>
              <a:rPr b="0" lang="en-US" sz="3200" spc="-1" strike="noStrike">
                <a:solidFill>
                  <a:srgbClr val="002d99"/>
                </a:solidFill>
                <a:latin typeface="Times New Roman"/>
              </a:rPr>
              <a:t>(372-289 B.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Confucius Fol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Pushed for the right qualities of a r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Rulers:Lead by example through education and provide for the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A ruler who is unjust may lose the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Times New Roman"/>
              </a:rPr>
              <a:t>Mandate of He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Mandate of Heaven is based on 4 thing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960" y="1066680"/>
            <a:ext cx="905508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ight to rule is granted by Heaven=Ruler religious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Only 1 Heaven=Only 1 Ru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ight to rule is based on how much power the ruler has=Ruler Power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ight to rule is not limited to 1 dyna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47480" y="-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Origins of the Man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1160" y="1130040"/>
            <a:ext cx="8928360" cy="55623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Zhou-Shang=</a:t>
            </a: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Early belief in a divine ruler: Shangdi: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</a:rPr>
              <a:t>Lord on High, Above emper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Shang: “Tian” was c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Tian - sky, heavens, go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Zhou - tian ming created =Mandate of He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14520" y="0"/>
            <a:ext cx="5638680" cy="14860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0920" y="129528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A dynasty could rule as long as th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ruled with jus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imes New Roman"/>
              </a:rPr>
              <a:t>duties of the ruler were carried out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Failure =Tian could choose a new ru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11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stic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752480"/>
            <a:ext cx="1441440" cy="536760"/>
          </a:xfrm>
          <a:prstGeom prst="rightArrow">
            <a:avLst>
              <a:gd name="adj1" fmla="val 50000"/>
              <a:gd name="adj2" fmla="val 6713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1752480"/>
            <a:ext cx="1371600" cy="507960"/>
          </a:xfrm>
          <a:prstGeom prst="rightArrow">
            <a:avLst>
              <a:gd name="adj1" fmla="val 50000"/>
              <a:gd name="adj2" fmla="val 6750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1828800" y="5410080"/>
            <a:ext cx="1371600" cy="571680"/>
          </a:xfrm>
          <a:prstGeom prst="rightArrow">
            <a:avLst>
              <a:gd name="adj1" fmla="val 50000"/>
              <a:gd name="adj2" fmla="val 599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5105160" y="5562720"/>
            <a:ext cx="1447560" cy="568080"/>
          </a:xfrm>
          <a:prstGeom prst="rightArrow">
            <a:avLst>
              <a:gd name="adj1" fmla="val 50000"/>
              <a:gd name="adj2" fmla="val 6370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9360" y="3342600"/>
            <a:ext cx="2057400" cy="857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219400">
            <a:off x="7131960" y="3510000"/>
            <a:ext cx="2044440" cy="809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24080" y="3048120"/>
            <a:ext cx="2819520" cy="1141200"/>
            <a:chOff x="3124080" y="3048120"/>
            <a:chExt cx="2819520" cy="1141200"/>
          </a:xfrm>
        </p:grpSpPr>
        <p:sp>
          <p:nvSpPr>
            <p:cNvPr id="106" name=""/>
            <p:cNvSpPr/>
            <p:nvPr/>
          </p:nvSpPr>
          <p:spPr>
            <a:xfrm>
              <a:off x="3124080" y="3048120"/>
              <a:ext cx="2819520" cy="1141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09920" y="3163680"/>
              <a:ext cx="23112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DYNASTIC CYC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03120" y="1447920"/>
            <a:ext cx="216072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Dynasty gains power, restores peace and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5257800"/>
            <a:ext cx="238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d Dynasty seen as ineffective, rebellion lik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876920"/>
            <a:ext cx="26924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sters such as floods, famine, peasant revolts, and invasion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/>
  <cp:revision>0</cp:revision>
  <dc:subject/>
  <dc:title>China Under Confucius</dc:title>
</cp:coreProperties>
</file>